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774600" y="-360"/>
            <a:ext cx="2886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856800" y="742680"/>
            <a:ext cx="4954680" cy="37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9406080"/>
            <a:ext cx="28875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774600" y="9406080"/>
            <a:ext cx="28861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B4F530CA-4096-44B3-A586-D0C50F89EC3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Keine Befassung mit den bi-lateralen internationalen Akteu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06D1-8A27-4F15-AFBB-E826144CC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661C-1C42-4256-A07D-A8AD07B11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1B73-2D72-4025-99A9-1CB154F61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00C6-E11F-4FF8-8204-52BFE6012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684036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24C8-AC63-4695-810D-2F1E0B2A4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8C3D-255D-4FCE-9EEC-112B85600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8E64-C5AB-4ABA-A801-1A96E9A05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283C-8D4B-4486-B398-7754701BB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684036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B41C-DD0B-4557-8B6B-E748AC75E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1E8C-66B8-4715-8D10-F9D07D0E2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B6B0-0658-4245-A20C-083E76B25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2196-C77D-4160-8B4F-67E27741B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1" marL="533520" indent="-17640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2" marL="89856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3" marL="125568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4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5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6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5763960" y="6619680"/>
            <a:ext cx="28969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4a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EEDF-77EF-4365-96C0-FF82D8A3C40B}" type="slidenum">
              <a:rPr b="0" lang="de-DE" sz="800" spc="-1" strike="noStrike">
                <a:solidFill>
                  <a:srgbClr val="004a7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247680"/>
            <a:ext cx="9144000" cy="1008000"/>
          </a:xfrm>
          <a:prstGeom prst="rect">
            <a:avLst/>
          </a:prstGeom>
          <a:solidFill>
            <a:srgbClr val="7c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3" descr=""/>
          <p:cNvPicPr/>
          <p:nvPr/>
        </p:nvPicPr>
        <p:blipFill>
          <a:blip r:embed="rId2"/>
          <a:stretch/>
        </p:blipFill>
        <p:spPr>
          <a:xfrm>
            <a:off x="7591320" y="549360"/>
            <a:ext cx="1228680" cy="42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b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8"/>
          <p:cNvSpPr/>
          <p:nvPr/>
        </p:nvSpPr>
        <p:spPr>
          <a:xfrm>
            <a:off x="0" y="2205000"/>
            <a:ext cx="8663040" cy="42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1151" descr=""/>
          <p:cNvPicPr/>
          <p:nvPr/>
        </p:nvPicPr>
        <p:blipFill>
          <a:blip r:embed="rId2"/>
          <a:stretch/>
        </p:blipFill>
        <p:spPr>
          <a:xfrm>
            <a:off x="3851280" y="5532480"/>
            <a:ext cx="4680000" cy="758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1" marL="533520" indent="-17640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2" marL="89856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3" marL="125568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4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5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6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0728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Kreditni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program za otklanjanje </a:t>
            </a:r>
            <a:br>
              <a:rPr sz="3200"/>
            </a:b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posljedica  poplava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(FRCP)</a:t>
            </a:r>
            <a:br>
              <a:rPr sz="3200"/>
            </a:b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Kratki pregled                               </a:t>
            </a:r>
            <a:r>
              <a:rPr b="1" lang="bs-BA" sz="1600" spc="-1" strike="noStrike">
                <a:solidFill>
                  <a:srgbClr val="ffffff"/>
                </a:solidFill>
                <a:latin typeface="Arial"/>
              </a:rPr>
              <a:t>Oktobar 2014. god</a:t>
            </a:r>
            <a:br>
              <a:rPr sz="3200"/>
            </a:b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Oktobar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ctober 201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6200" y="2205000"/>
            <a:ext cx="820764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7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7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5764320" y="6620040"/>
            <a:ext cx="28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2540-D5A5-4EAF-98D3-5266F2F709AD}" type="slidenum">
              <a:rPr b="0" lang="de-DE" sz="800" spc="-1" strike="noStrike">
                <a:solidFill>
                  <a:srgbClr val="004a7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RCP- </a:t>
            </a:r>
            <a:r>
              <a:rPr b="1" lang="bs-BA" sz="2400" spc="-1" strike="noStrike">
                <a:solidFill>
                  <a:srgbClr val="ffffff"/>
                </a:solidFill>
                <a:latin typeface="Arial"/>
              </a:rPr>
              <a:t>faza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Doprinos od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2.5 m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lion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EUR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u okviru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vropskog fonda z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B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osnu i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Her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cegovinu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(EFBH)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Usmjereno na krajnje korisnike pogođene poplavama putem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2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mikrofinansijske institucije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(Partner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z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Tuzl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e i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Mikrofin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z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Banja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luke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);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svaka institucija primila je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1.25 m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liona EUR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fektivno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od kraja jun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2014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. godine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a u potpunosti isplaćeno krajnjim korisnicima do kraja oktobr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2014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. godine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Kriteriji podobnosti za krajnje korisnike: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P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riv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t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n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, m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kro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,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mala i srednja preduzeća, preduzetnici i privatna kućanstva, pogođeni poplavam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2014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. godine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Zajmovi namijenjeni isključivo za obnavljanje i sanaciju šteta za poslovne subjekte i kućanstva, koji su djelomično i/ili u potpunosti uništeni od poplav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Zajmovi neće prelaziti iznos od  3.000,-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UR 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Dospijeće zajma je z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3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godine sa grejs periodom od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6 m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jeseci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Kamat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0%,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bez naknade za obradu kredita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1"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5764320" y="6620040"/>
            <a:ext cx="28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8B0C-1693-46F3-AD87-A1C1A169EE1A}" type="slidenum">
              <a:rPr b="0" lang="de-DE" sz="800" spc="-1" strike="noStrike">
                <a:solidFill>
                  <a:srgbClr val="004a7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CP- Phase I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Doprinos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F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ederalnog ministarstva za ekonomsku saradnju u razvoj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(BMZ)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u iznosu od 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  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5 milion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UR  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Usmjereno na krajnje korisnike pogođene poplavama putem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2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mikrofinansijske institucije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(Partner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z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Tuzl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Mikrofin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z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Banja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luke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Svaka institucija će primiti 2.5 m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UR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Pokrivenost rizika do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50%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za svaki pod-zajam i do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15%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ukupnog iznosa zajm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fektivno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: 2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. polovica oktobr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2014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. godine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Kriteriji podobnosti za krajnje korisnike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P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riv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t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n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, m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ikro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,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mala i srednja preduzeća, preduzetnici i privatna kućanstva, pogođeni poplavam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2014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. godine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Zajmovi namijenjeni isključivo za obnavljanje i sanaciju šteta za poslovne subjekte i kućanstva, koji su djelomično i/ili u potpunosti uništeni od poplava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Zajmovi neće prelaziti iznos od  3.000,-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UR 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Dospijeće zajma je z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3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godine sa grejs periodom od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 6 m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jeseci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Kamata </a:t>
            </a: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0%, </a:t>
            </a:r>
            <a:r>
              <a:rPr b="0" lang="bs-BA" sz="1600" spc="-1" strike="noStrike">
                <a:solidFill>
                  <a:srgbClr val="004a78"/>
                </a:solidFill>
                <a:latin typeface="Arial"/>
              </a:rPr>
              <a:t>bez naknade za obradu kredita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06:58Z</dcterms:created>
  <dc:creator>Heike Hartung</dc:creator>
  <dc:description/>
  <dc:language>en-US</dc:language>
  <cp:lastModifiedBy>operater</cp:lastModifiedBy>
  <dcterms:modified xsi:type="dcterms:W3CDTF">2014-10-21T09:21:20Z</dcterms:modified>
  <cp:revision>133</cp:revision>
  <dc:subject/>
  <dc:title>Präsentation</dc:title>
</cp:coreProperties>
</file>